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440E-6E45-4467-867E-9A901E2504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44310-0E34-4578-A2E4-1BD32F971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85100-75B7-40FC-B100-D1CB92CAA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B3A7-E4F5-4B26-8731-F333F41F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E5D-1C27-479E-B4ED-5F6489AFA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B17D-8C3C-42A2-A164-7D0FE3CAD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35CC-378C-45AB-892C-8FA28CA84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FEDEC-8E05-4CDB-86AF-4B67F679D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86C13-E73E-461B-8B3A-6EDB7F086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FF57-5FCD-44C7-9B55-D9F599C31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A2FB-AB21-4CDB-A732-EB3778DD4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325D-7C50-4E39-9052-E2746B47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661A2-2116-46B3-AC1A-6DCADC751C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stronomy –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udy of the moon, stars and other objects in spa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ota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– the spinning motion of a planet on its ax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x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– the imaginary line that passes through Earth’s center and the North and South poles, about which earth rota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rotation causes day and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 rotates once in 24 hours = 1 d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earth_rotation"/>
          <p:cNvPicPr/>
          <p:nvPr/>
        </p:nvPicPr>
        <p:blipFill>
          <a:blip r:embed="rId1"/>
          <a:stretch/>
        </p:blipFill>
        <p:spPr>
          <a:xfrm>
            <a:off x="609480" y="914400"/>
            <a:ext cx="3195720" cy="40766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4648320" y="914400"/>
            <a:ext cx="3905280" cy="409572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5"/>
          <p:cNvSpPr/>
          <p:nvPr/>
        </p:nvSpPr>
        <p:spPr>
          <a:xfrm>
            <a:off x="1219320" y="5256000"/>
            <a:ext cx="701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idence: NY gets sun before CA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Fact: Earth rotates counterclockwi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t: Sun rises in the east; sets in w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672400" cy="45892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5T12:02:39Z</dcterms:created>
  <dc:creator>skrial</dc:creator>
  <dc:description/>
  <dc:language>en-US</dc:language>
  <cp:lastModifiedBy>skrial</cp:lastModifiedBy>
  <dcterms:modified xsi:type="dcterms:W3CDTF">2010-09-20T13:38:07Z</dcterms:modified>
  <cp:revision>6</cp:revision>
  <dc:subject/>
  <dc:title>Notes 9/24-25</dc:title>
</cp:coreProperties>
</file>